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FAE-AE6E-4110-B850-5CD43213B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4B4-1AB4-4015-BD89-CFD38029F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3DCB-B7DF-4BB7-871A-63D7610B5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39A3-BE4F-421B-98D8-A289B5119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76-702A-4C76-96C3-4D23FFEAD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2E1C-7E40-4E15-8DE2-136F6B6259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B45-6297-499B-851C-6B612229A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791-208F-40E8-ABDF-69AB0D7390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C60-086C-429F-8CD1-E926FED2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9E9-FA74-424B-85F5-79C2025D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C16-5BF2-463C-BBF5-8192D031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C2B-EE24-4E56-80FF-F41C7963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DFAE9-4DDC-43D0-8461-82DF8B21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5F64-7899-4E25-A7AD-DC66178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82EF-D094-44FC-A6E8-03731EC6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14B76-FF65-4986-8110-C8F94A7D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5FC2-0E82-44D3-A65A-DAB5CC9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E874-6A32-4BB7-A0E0-5A9E5997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4991B-87AA-4D19-A3F0-030E9EA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094-734F-42C6-9A84-47964A20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FA4DF-2BC6-4DF0-B1E7-D33DC254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0B93C-2F8D-4705-80BB-9A94DAA8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A5C68-9C37-4843-AEE5-2052825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6E30B-4F47-4AE0-9CF0-0B8F2233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ACFFB-60BB-4B84-9486-E69E622F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021-8FD5-4690-A14D-134E1D88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450-C58F-451B-96F6-B446780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7D1-A1ED-4E09-B084-8819609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4BA-C6C4-4A27-A128-599C64A0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0BF-4BCC-44AB-BCD2-6535F0D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871-68B3-404E-9411-5DE1371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430-AFB1-4614-97B3-8542974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658-23B1-4D26-98D7-B3854207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58E3-2A99-4C7C-8A0A-6ABC55A58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ching Spirit B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838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em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totem"/>
          <p:cNvPicPr/>
          <p:nvPr/>
        </p:nvPicPr>
        <p:blipFill>
          <a:blip r:embed="rId2"/>
          <a:stretch/>
        </p:blipFill>
        <p:spPr>
          <a:xfrm>
            <a:off x="3505320" y="2590920"/>
            <a:ext cx="2185920" cy="324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ot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atural or mythical animal to whom you feel a close connection during your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ergy of the totem animal speaks to you in some way that is relevant to your own personality or circumstance in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totem_pole_3"/>
          <p:cNvPicPr/>
          <p:nvPr/>
        </p:nvPicPr>
        <p:blipFill>
          <a:blip r:embed="rId2"/>
          <a:stretch/>
        </p:blipFill>
        <p:spPr>
          <a:xfrm>
            <a:off x="5124600" y="1905120"/>
            <a:ext cx="30844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Origin of Totem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ly, the totem was an animal that represented a clan or familial group in order to distinguish them from other c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lso - in some practices - an individual animal that guided a person on their spiritual or life journe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animaltotem"/>
          <p:cNvPicPr/>
          <p:nvPr/>
        </p:nvPicPr>
        <p:blipFill>
          <a:blip r:embed="rId2"/>
          <a:stretch/>
        </p:blipFill>
        <p:spPr>
          <a:xfrm>
            <a:off x="5605560" y="1905120"/>
            <a:ext cx="212256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tem is Connected to Your Spir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of many countries have animal spirits that play a very important part in their li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hinese astrology all the signs are animals and in western astrology most of the signs are anim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bear-totem"/>
          <p:cNvPicPr/>
          <p:nvPr/>
        </p:nvPicPr>
        <p:blipFill>
          <a:blip r:embed="rId2"/>
          <a:stretch/>
        </p:blipFill>
        <p:spPr>
          <a:xfrm>
            <a:off x="4767120" y="1905120"/>
            <a:ext cx="380052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 Totems and Their Mea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 -Teaches strength, solitude,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gle-Teaches courage, freedom, spiritual ba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le-Teaches provision, creation, awak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-Teaches freedom of spirit, discipline, l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totem1lg"/>
          <p:cNvPicPr/>
          <p:nvPr/>
        </p:nvPicPr>
        <p:blipFill>
          <a:blip r:embed="rId2"/>
          <a:stretch/>
        </p:blipFill>
        <p:spPr>
          <a:xfrm>
            <a:off x="5227560" y="1905120"/>
            <a:ext cx="287964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totem for Cole Matth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ust have a minimum of 3 anim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or use computer graphics to create your to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must be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totemowlsweb-main_Full"/>
          <p:cNvPicPr/>
          <p:nvPr/>
        </p:nvPicPr>
        <p:blipFill>
          <a:blip r:embed="rId2"/>
          <a:stretch/>
        </p:blipFill>
        <p:spPr>
          <a:xfrm>
            <a:off x="5180040" y="1905120"/>
            <a:ext cx="297324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ust include a paragraph explaining why you chose these animals and why they fit Cole and his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agraph should be in ink or word proc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animal_totem2"/>
          <p:cNvPicPr/>
          <p:nvPr/>
        </p:nvPicPr>
        <p:blipFill>
          <a:blip r:embed="rId2"/>
          <a:stretch/>
        </p:blipFill>
        <p:spPr>
          <a:xfrm>
            <a:off x="5405400" y="1905120"/>
            <a:ext cx="252252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46:37Z</dcterms:created>
  <dc:creator>mtsd webmaster</dc:creator>
  <dc:description/>
  <dc:language>en-US</dc:language>
  <cp:lastModifiedBy>Debby/Caven</cp:lastModifiedBy>
  <dcterms:modified xsi:type="dcterms:W3CDTF">2010-04-01T01:42:21Z</dcterms:modified>
  <cp:revision>11</cp:revision>
  <dc:subject/>
  <dc:title>Touching Spirit Bear</dc:title>
</cp:coreProperties>
</file>